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51B-12CD-4288-868C-C36824ECF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intertwined. So why list the parts separa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er in the round – framework as 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F92A-DF9B-4906-BFBE-2C08ADB0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D39-92E3-4FE7-BB1D-48299023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F37-1C69-4A0E-A89C-DE3ECAE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EE9-56B3-451C-8DF2-32AA60D2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B6D-6CB6-4C12-AE60-1FEA28F0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B06A-5712-4E93-98AF-0E328E45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3DD-0E4A-4DCB-A7D8-A121B439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591-A144-43FB-A8DF-AE469C0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406-57A5-40DD-AA1B-D95F4007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438D-DA97-4E3A-B5DE-D8809086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CFD9-EB1D-4DA8-970D-8BACEC33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51BE-4C1D-41D4-AAA5-2855D6EF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649-B62E-4FDE-B8E9-3D6BE67E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7AA1-751D-4E7A-946C-3C02795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A3D8-368A-4245-8EC0-9C62F20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DA7-1F55-46B7-B224-C3C78B9B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C0C-1957-4340-848E-CAEF7BFC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E518-1188-4FC1-B7A2-09CD6BF7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6B0-016A-4ECA-BA61-1342220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24C-889C-42D5-B927-92270D6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423-6419-4611-85DD-5628213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010-D03D-4512-BE0A-BBA6487D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356-F63D-44B3-A839-506E748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324-115C-42AF-8F3E-04C3B1B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061-E613-4587-8F6B-7F59FEE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2CED-BF8B-4B52-A8F7-AC0FAC3D83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5C8F-DDA2-409A-9886-9AD7DA2D53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idgetdoogan@gmail.co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914040"/>
            <a:ext cx="6934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1800" spc="-1" strike="noStrike">
                <a:solidFill>
                  <a:srgbClr val="bfbfbf"/>
                </a:solidFill>
                <a:latin typeface="Times New Roman"/>
              </a:rPr>
              <a:t>Implementing the  Professional Growth Process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948a54"/>
                </a:solidFill>
                <a:latin typeface="Times New Roman"/>
              </a:rPr>
              <a:t>Session 3</a:t>
            </a:r>
            <a:br>
              <a:rPr sz="2400"/>
            </a:b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Observing Teaching and Professional Conversations</a:t>
            </a: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1200"/>
            </a:b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merican International School-Riy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aturday, 29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Bridget Doogan</a:t>
            </a:r>
            <a:br>
              <a:rPr sz="32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ridgetdoogan@gmail.com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Evidence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37" name="Diagram 4" descr=""/>
          <p:cNvPicPr/>
          <p:nvPr/>
        </p:nvPicPr>
        <p:blipFill>
          <a:blip r:embed="rId1"/>
          <a:stretch/>
        </p:blipFill>
        <p:spPr>
          <a:xfrm>
            <a:off x="1809720" y="1889280"/>
            <a:ext cx="6134040" cy="4097160"/>
          </a:xfrm>
          <a:prstGeom prst="rect">
            <a:avLst/>
          </a:prstGeom>
          <a:ln w="0">
            <a:noFill/>
          </a:ln>
        </p:spPr>
      </p:pic>
      <p:sp>
        <p:nvSpPr>
          <p:cNvPr id="138" name="Footer Placeholder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"/>
          <p:cNvSpPr/>
          <p:nvPr/>
        </p:nvSpPr>
        <p:spPr>
          <a:xfrm>
            <a:off x="3276720" y="5715000"/>
            <a:ext cx="6094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1600200" y="3809880"/>
            <a:ext cx="6094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762120" y="1752480"/>
            <a:ext cx="6094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AutoShape 5"/>
          <p:cNvCxnSpPr/>
          <p:nvPr/>
        </p:nvCxnSpPr>
        <p:spPr>
          <a:xfrm flipV="1">
            <a:off x="1371600" y="1142640"/>
            <a:ext cx="602064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AutoShape 6"/>
          <p:cNvCxnSpPr/>
          <p:nvPr/>
        </p:nvCxnSpPr>
        <p:spPr>
          <a:xfrm flipV="1">
            <a:off x="2209680" y="1294920"/>
            <a:ext cx="5029920" cy="28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7"/>
          <p:cNvCxnSpPr/>
          <p:nvPr/>
        </p:nvCxnSpPr>
        <p:spPr>
          <a:xfrm flipV="1">
            <a:off x="3785760" y="1219320"/>
            <a:ext cx="3644280" cy="45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AutoShape 8"/>
          <p:cNvSpPr/>
          <p:nvPr/>
        </p:nvSpPr>
        <p:spPr>
          <a:xfrm>
            <a:off x="1371600" y="1143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685800" y="9907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2590920" y="205740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1676520" y="236232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057400" y="29718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990720" y="297180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2971800" y="28195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2209680" y="4495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143000" y="4572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2743200" y="38098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609480" y="38098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9"/>
          <p:cNvSpPr/>
          <p:nvPr/>
        </p:nvSpPr>
        <p:spPr>
          <a:xfrm>
            <a:off x="2971800" y="4495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1600200" y="51055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2286000" y="5638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1066680" y="5715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2819520" y="5181480"/>
            <a:ext cx="30456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809880" y="40384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85800" y="50292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4419720" y="5562720"/>
            <a:ext cx="30456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7"/>
          <p:cNvSpPr/>
          <p:nvPr/>
        </p:nvSpPr>
        <p:spPr>
          <a:xfrm>
            <a:off x="228600" y="228600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1523880" y="33526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304920" y="3124080"/>
            <a:ext cx="30456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2209680" y="14479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>
            <a:off x="914400" y="19051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2"/>
          <p:cNvSpPr/>
          <p:nvPr/>
        </p:nvSpPr>
        <p:spPr>
          <a:xfrm>
            <a:off x="1752480" y="3962520"/>
            <a:ext cx="304920" cy="38088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3429000" y="5867280"/>
            <a:ext cx="304920" cy="381240"/>
          </a:xfrm>
          <a:prstGeom prst="sun">
            <a:avLst>
              <a:gd name="adj" fmla="val 46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7772400" y="1600200"/>
            <a:ext cx="762120" cy="3429000"/>
          </a:xfrm>
          <a:prstGeom prst="downArrow">
            <a:avLst>
              <a:gd name="adj1" fmla="val 50000"/>
              <a:gd name="adj2" fmla="val 1124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7543800" y="5257800"/>
            <a:ext cx="1295280" cy="1066680"/>
          </a:xfrm>
          <a:prstGeom prst="wedgeEllipseCallout">
            <a:avLst>
              <a:gd name="adj1" fmla="val -31986"/>
              <a:gd name="adj2" fmla="val 55652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0958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3581280" y="1676520"/>
            <a:ext cx="3048120" cy="134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 and unbi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esentative of the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8"/>
          <p:cNvGrpSpPr/>
          <p:nvPr/>
        </p:nvGrpSpPr>
        <p:grpSpPr>
          <a:xfrm>
            <a:off x="7620120" y="533520"/>
            <a:ext cx="990360" cy="838080"/>
            <a:chOff x="7620120" y="533520"/>
            <a:chExt cx="990360" cy="838080"/>
          </a:xfrm>
        </p:grpSpPr>
        <p:sp>
          <p:nvSpPr>
            <p:cNvPr id="177" name="AutoShape 39"/>
            <p:cNvSpPr/>
            <p:nvPr/>
          </p:nvSpPr>
          <p:spPr>
            <a:xfrm>
              <a:off x="7620120" y="533520"/>
              <a:ext cx="990360" cy="838080"/>
            </a:xfrm>
            <a:prstGeom prst="foldedCorner">
              <a:avLst>
                <a:gd name="adj" fmla="val 125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0"/>
            <p:cNvSpPr/>
            <p:nvPr/>
          </p:nvSpPr>
          <p:spPr>
            <a:xfrm>
              <a:off x="7696080" y="685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pect and Ra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AutoShape 41"/>
          <p:cNvCxnSpPr/>
          <p:nvPr/>
        </p:nvCxnSpPr>
        <p:spPr>
          <a:xfrm flipV="1">
            <a:off x="1294920" y="533160"/>
            <a:ext cx="442044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0" name="Group 42"/>
          <p:cNvGrpSpPr/>
          <p:nvPr/>
        </p:nvGrpSpPr>
        <p:grpSpPr>
          <a:xfrm>
            <a:off x="5715000" y="152280"/>
            <a:ext cx="1143000" cy="609840"/>
            <a:chOff x="5715000" y="152280"/>
            <a:chExt cx="1143000" cy="609840"/>
          </a:xfrm>
        </p:grpSpPr>
        <p:sp>
          <p:nvSpPr>
            <p:cNvPr id="181" name="AutoShape 43"/>
            <p:cNvSpPr/>
            <p:nvPr/>
          </p:nvSpPr>
          <p:spPr>
            <a:xfrm>
              <a:off x="5791320" y="152280"/>
              <a:ext cx="990360" cy="609840"/>
            </a:xfrm>
            <a:prstGeom prst="foldedCorner">
              <a:avLst>
                <a:gd name="adj" fmla="val 125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5715000" y="3049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uestioning and Discuss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5"/>
          <p:cNvSpPr/>
          <p:nvPr/>
        </p:nvSpPr>
        <p:spPr>
          <a:xfrm>
            <a:off x="6477120" y="3276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228600" y="380880"/>
            <a:ext cx="47242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vid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Observations as Evidence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and statements by teacher or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s of eng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 challenge of activities and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among teachers/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the classro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imes New Roman"/>
              </a:rPr>
              <a:t>Artifacts as Evidence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, plans, organizational tools and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of student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Observing the Lesson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paying particular attention to what the students are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 and statements by teacher or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  - write them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ons of eng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lectual challenge of activities and 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ction among teachers/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f81b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s of the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tool you would like to use to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he Big Ideas of Teaching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pic>
        <p:nvPicPr>
          <p:cNvPr id="195" name="Content Placeholder 3" descr="Talk About Teaching.jpg"/>
          <p:cNvPicPr/>
          <p:nvPr/>
        </p:nvPicPr>
        <p:blipFill>
          <a:blip r:embed="rId1"/>
          <a:stretch/>
        </p:blipFill>
        <p:spPr>
          <a:xfrm>
            <a:off x="1600200" y="1905120"/>
            <a:ext cx="2705040" cy="385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876920" y="1828800"/>
            <a:ext cx="3962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otte Danielson’s  New Bo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bout Teaching: Leading Professional Conversations. Corwin Press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Opportunities for Professional Conversation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reflective conversations, following an observation, associated with performance appraisal, with an evaluato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variation; a conversation with a mentor, in “preparation” for a formal ob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conversation, with mentors, peer coaches, or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professional conversations, following an un-announced, “drop-in”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Formal Reflective Conversation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f practice according to established standards of practice, e.g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framework fo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the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 per the district’s polic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hould promote self-assessment and reflection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Formal Reflective Conversations (cont)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 observes the lesson; takes notes; considers evidence against the teaching standards; makes preliminary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also considers events of the lesson in light of the standards; interprets evidence against the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and evaluator compare notes; summarize strengths and areas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Limitations of Feedback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e regards teaching as a cognitive activity, then the conversation must be abou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g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as normally offered feels judgmental, even condescending, patro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ful conversations about teaching are centered on asking questions and solving problems, rather than on feedback, convey professional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oday’s Outcome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domains, components and elements of the Framework for Teaching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methods of recording, coding, and sorting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valid conclusions about performance using the new guidelines for observation and scoring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the conventions of professional conver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issues surrounding trust, power and leadershi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aching Conversation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“another set of eyes” for a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exible, according to local conditions and schedu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mote teacher self-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formal Professional Conversation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student achievement by promoting rigorous and engaging learning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the administrator or mentor/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lexible, based on time available for informal observations of teach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gage teachers in problem-solv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nversation Skill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used in all three types of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ing and Sustaining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 skill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araphras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b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harlotte Danielson on 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Conversation Skills  - Jigsaw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table group number yourselves 1-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f 1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ra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ositive presup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iting and Sustaining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uistic skills: paraphrasing; probing; clar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1s gather together. All 2s, 3s and 4s do the same to form expert groups of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read their topic section and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s decide what key ideas they will share back at their hom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home group and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oday’s Agenda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e/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with the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, coding and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and po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oday’s Agenda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:15-8:30               Coffee &amp; sn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:30-10:00              Progress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depth understanding of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-10:30           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30-11:30            Video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30-12:00            Lu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00-12:30            Video Observation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:30-2:15              Coaching convers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Working Agreement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tim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on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The Framework for Teaching</a:t>
            </a:r>
            <a:br>
              <a:rPr sz="3600"/>
            </a:br>
            <a:r>
              <a:rPr b="0" lang="en-US" sz="2800" spc="-1" strike="noStrike">
                <a:solidFill>
                  <a:srgbClr val="1f497d"/>
                </a:solidFill>
                <a:latin typeface="Times New Roman"/>
              </a:rPr>
              <a:t>Second Edition</a:t>
            </a: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838080" y="1600200"/>
            <a:ext cx="7848720" cy="4336560"/>
            <a:chOff x="838080" y="1600200"/>
            <a:chExt cx="7848720" cy="4336560"/>
          </a:xfrm>
        </p:grpSpPr>
        <p:sp>
          <p:nvSpPr>
            <p:cNvPr id="122" name="Rectangle 5"/>
            <p:cNvSpPr/>
            <p:nvPr/>
          </p:nvSpPr>
          <p:spPr>
            <a:xfrm>
              <a:off x="838080" y="3657600"/>
              <a:ext cx="3886200" cy="22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ain 3: 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ng With Stud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 Questioning and Discuss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aging Students in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ing Assessment in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Flexibility and   Responsive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4800600" y="3657600"/>
              <a:ext cx="3657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838080" y="1600200"/>
              <a:ext cx="396252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ain 1:  Planning and Prepa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Knowledge of  Content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 Pedag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Knowledge of Stud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ting Instructional Outco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nstrating Knowledge of 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ing Coherent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ing Student Assess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4800600" y="1600200"/>
              <a:ext cx="3886200" cy="20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main 2:  The Classroom Enviro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ing an Environment of Respect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 Ra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tablishing a Culture for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aging Classroom Proced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aging Studen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anizing Physi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9"/>
          <p:cNvSpPr/>
          <p:nvPr/>
        </p:nvSpPr>
        <p:spPr>
          <a:xfrm>
            <a:off x="4800600" y="36180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in 4:  Professional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ing on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ing Accurate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ng with Fami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ing in a Professional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ing and Developing Profess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ing Professionalis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Directions for the Card Sor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range yourselves into two groups of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cards evenly among the group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the color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colors evenly among group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up by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Directions for the Card Sort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cenario on each of your cards and  identify the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which it is most closely related.  Refer to your component summary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80008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it on a post-it and stick it on the 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Please do not write on the car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Watching Video Clip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paying particular attention to what the students are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of the “big ideas” are in evidence in the cl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8000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an initial question for the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anielson Group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0:00:14Z</dcterms:created>
  <dc:creator>Charlotte Danielson</dc:creator>
  <dc:description/>
  <dc:language>en-US</dc:language>
  <cp:lastModifiedBy>MY HP</cp:lastModifiedBy>
  <dcterms:modified xsi:type="dcterms:W3CDTF">2010-05-29T05:09:28Z</dcterms:modified>
  <cp:revision>114</cp:revision>
  <dc:subject/>
  <dc:title>The Framework for Teacher Leadership</dc:title>
</cp:coreProperties>
</file>